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97F-64FE-42E8-9481-10B12731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5C6-DD17-4AF4-A966-F1BCC7F1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A88-8AE5-4D9B-83F4-1F1CB501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034-C5E7-401C-A7EB-B5FD3C77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873-6F6E-4E16-926A-B4843FEC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B64-D416-4EE2-BDF7-A2A9D736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908-C314-405B-B268-E0BA1840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307-70B0-493B-B442-AF9816B9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20E-5155-41B4-9F46-2A4EFE6D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3D8-162F-4532-8C7F-45838A2F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9F8-A903-4C0F-B7DD-A0678C00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B2F-7E00-4CD0-858A-8C306548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3183-684A-466F-85CD-592088D935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Man He Kil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omas Har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224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ipper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fa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alf-a-crown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rt for ‘wet the baby’s head’ meaning toast the health of a new ba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gional dialect word for ba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ot soldiers on the front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e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list, join the ar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ngs, stu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y a drink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-decimal coin to the value of two shillings and sixpence (12½ p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483920"/>
            <a:ext cx="3382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dramatic monolog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quatr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ambic t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ambic tetrameter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95280" y="1484280"/>
            <a:ext cx="4691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irst-person narra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stanza of four lines, often having alternate rhy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tre with three beats of two syllables per 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tre with four beats of two syllables per 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37:33Z</dcterms:modified>
  <cp:revision>50</cp:revision>
  <dc:subject/>
  <dc:title>La Belle Dame Sans Merci</dc:title>
</cp:coreProperties>
</file>